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5557"/>
        <c:axId val="72706569"/>
      </c:barChart>
      <c:catAx>
        <c:axId val="8495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6569"/>
        <c:crosses val="autoZero"/>
        <c:auto val="1"/>
        <c:lblAlgn val="ctr"/>
        <c:lblOffset val="100"/>
        <c:noMultiLvlLbl val="0"/>
      </c:catAx>
      <c:valAx>
        <c:axId val="72706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9D6-0620-4186-B716-DEE00EB6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4AC-7E4B-4C82-A265-0C26D1C7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F4B-BA8F-4D3B-9454-0962FDB1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7D4-9F9B-43FA-A5A7-0027E2CC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9B5-8B53-4313-B1EE-66E774C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329-2E26-4901-AC44-3E5886E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EB2-CE64-4864-BB19-C33254D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5A0-FB4C-42CB-883B-F32DC00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00A-7979-483C-8180-F1ED4DD4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19D-C055-4787-A3F7-8304734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006-171D-4F59-837B-80B50F5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A52-AB5C-4161-A065-8B458FB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7900B-0BF2-40CF-B53F-3E3FB97D6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