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35115"/>
        <c:axId val="65464350"/>
      </c:barChart>
      <c:catAx>
        <c:axId val="93735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64350"/>
        <c:crosses val="autoZero"/>
        <c:auto val="1"/>
        <c:lblAlgn val="ctr"/>
        <c:lblOffset val="100"/>
        <c:noMultiLvlLbl val="0"/>
      </c:catAx>
      <c:valAx>
        <c:axId val="65464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5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747-D7CC-42CA-A797-47E4CF1E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F06-1987-41D2-A45E-FD1229F7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980-9629-458F-90DB-B96276B7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137-C441-4902-A5E0-2B511F6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14D-6FA1-40E2-A34B-1EB04E4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1A8-98FE-495C-8033-95357422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B6B-A3F6-492C-8D7E-9F392C9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999-BBD6-4318-A2BF-4FBE47D6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EA3-90E5-4F4E-B07A-7A0F285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111-4225-43AB-9226-7539B21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206-E3A8-4CC8-B257-7A2976C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505-B523-41AE-A3B4-84761E2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36891-87BA-451C-B39D-84188606B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