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47038"/>
        <c:axId val="8698957"/>
      </c:barChart>
      <c:catAx>
        <c:axId val="148470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8957"/>
        <c:crosses val="autoZero"/>
        <c:auto val="1"/>
        <c:lblAlgn val="ctr"/>
        <c:lblOffset val="100"/>
        <c:noMultiLvlLbl val="0"/>
      </c:catAx>
      <c:valAx>
        <c:axId val="8698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470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75B-2E8C-4BD8-834B-E112B6FF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9D1F-4021-4E87-A4E2-6E6DAF44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108F-3A9B-4D04-B95E-F5ADA27B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5C6-17E4-4C76-A720-88605340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152-0431-43F3-9D33-078FCE9E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991-948C-42F1-A714-8C3FC7DD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0080-6F41-4D15-AE16-9E6AA1A6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7B9-0B24-4B9D-8B22-0D05FEBA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42E-B054-47FA-A4EC-8C10A690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EE7-7DE8-4315-819D-0A22224E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8F13-AEC7-4C78-BC4E-4F35188A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4079-F3CF-405F-81C0-F859B4B7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59533-1B08-4421-B5EA-E2650FE36E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