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78817"/>
        <c:axId val="90462263"/>
      </c:barChart>
      <c:catAx>
        <c:axId val="63878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62263"/>
        <c:crosses val="autoZero"/>
        <c:auto val="1"/>
        <c:lblAlgn val="ctr"/>
        <c:lblOffset val="100"/>
        <c:noMultiLvlLbl val="0"/>
      </c:catAx>
      <c:valAx>
        <c:axId val="90462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78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F05-DE7F-48BA-998F-0CC7EEA9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276-E6A7-4607-BB34-19AB3B6A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500-AF1E-4281-A4D5-70A3BCAC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DF4-775B-480D-85A9-34A1FDB1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47B-0DFB-43DC-9F9B-CA290460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8EE-997E-4586-B7D6-7C0CF7FB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786-2DE6-4E03-BE6B-D7F76088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91D-5A66-4117-91EF-9D329359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876-E802-4BCA-9E6A-8FD697DB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FD9-80D1-498F-9D19-69576DC9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F58-453D-454C-ADBF-1D368F23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964-39DA-48A7-B083-A7767E86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6A1EF-D966-4006-B89C-27E209312D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