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193677"/>
        <c:axId val="94284618"/>
      </c:barChart>
      <c:catAx>
        <c:axId val="541936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284618"/>
        <c:crosses val="autoZero"/>
        <c:auto val="1"/>
        <c:lblAlgn val="ctr"/>
        <c:lblOffset val="100"/>
        <c:noMultiLvlLbl val="0"/>
      </c:catAx>
      <c:valAx>
        <c:axId val="942846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936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1F30-76A5-4DE1-AFB5-293BF5196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89CE-BC9C-4E8B-B52F-52FD54CE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207F-7719-4D05-A4D3-435C031F0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6EF5-9A05-408A-BC76-4C55F91C2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04C8-5266-4D3C-AD9C-AE742882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EBA7-CF32-4916-8E4C-FE0B4004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217E-2C6A-48E9-819B-C683412B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D21E-403B-4005-981C-EA418EC5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A58D-B005-4DCA-9725-BA7F3AAC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B32F-396D-48F5-ADAE-E4631E9F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2A87-7711-415B-B48C-110C78A9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2E9A-7E9D-4BB3-870B-80929E30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5B4B7-0851-4608-8914-6A66A97B32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