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66264"/>
        <c:axId val="39438118"/>
      </c:barChart>
      <c:catAx>
        <c:axId val="11662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438118"/>
        <c:crosses val="autoZero"/>
        <c:auto val="1"/>
        <c:lblAlgn val="ctr"/>
        <c:lblOffset val="100"/>
        <c:noMultiLvlLbl val="0"/>
      </c:catAx>
      <c:valAx>
        <c:axId val="394381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662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8A9D-AD64-4795-945B-3C82D8806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9E56-D196-4D64-8E62-F250D21E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86D0-08AC-4CBA-81AD-B525E15B2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AD3C-B064-459E-9A74-13319C3A4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D7D5-D860-4E6E-93A7-5FEBC003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0C7F-2E94-43F6-87AD-3FF4A312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BFD6-6129-4628-93A1-065E9988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26A9-066B-48EB-99B6-5B60059D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8CE2-9F86-438F-9536-9D622AFA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9A2C-DEBA-4A2B-B382-5DE3B983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C492-F41C-4B1F-95C4-6319219E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49CB-322E-4BA3-9B36-1A6C494F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4C4D38-F968-4F9E-9573-7EB872F7F8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