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79479"/>
        <c:axId val="58408966"/>
      </c:barChart>
      <c:catAx>
        <c:axId val="82479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408966"/>
        <c:crosses val="autoZero"/>
        <c:auto val="1"/>
        <c:lblAlgn val="ctr"/>
        <c:lblOffset val="100"/>
        <c:noMultiLvlLbl val="0"/>
      </c:catAx>
      <c:valAx>
        <c:axId val="58408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79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3140-8B27-4E0C-A414-56C4F957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DFE-F763-4F43-A610-EF4003C4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007E-5282-4BAE-B74D-F5E704D43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8AF-20FA-4021-8029-CBC5286A4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71C-AFDC-4A1B-90F8-5A40646B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F5C-FEAD-4EA9-A5F9-1E848526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00E1-3FDB-4B43-BEAD-AA393184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3D8A-B083-42DC-B01D-8E40E56E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2B7-5327-43B6-8422-368869BE0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12B3-C5B7-4313-8346-E9FF626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1C59-2254-4465-953F-5EA16FC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01DC-CD97-4258-92DF-CCC152E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73EBB-167B-48BB-8B7F-B8645A518C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