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458008"/>
        <c:axId val="9602068"/>
      </c:barChart>
      <c:catAx>
        <c:axId val="904580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2068"/>
        <c:crosses val="autoZero"/>
        <c:auto val="1"/>
        <c:lblAlgn val="ctr"/>
        <c:lblOffset val="100"/>
        <c:noMultiLvlLbl val="0"/>
      </c:catAx>
      <c:valAx>
        <c:axId val="96020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580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C422-C920-4E32-9CBD-D3C8DDEA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C68A-D84F-47DA-8EC4-9259FE4A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FE6A-065C-42C3-AFD9-8AA66490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7FF0-D9F6-47B4-9A6B-0AFD5E5A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9072-5818-4111-95B3-164FAFDA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8AEB-A4DD-4803-BAC4-FF61B22F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520B-2CEC-4821-821F-A519A974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E2DF-9415-4E46-ABBB-9FEE137E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3156-4BC8-4CCC-896F-BD84801E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10FF-CC3D-4A15-B3DD-EB448592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B7E6-5AD7-413E-9E4E-DEF6C360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01A4-8C79-4C9E-AFB2-5879EFA9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E35E5-66F8-4471-8567-F542408147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