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47433"/>
        <c:axId val="52593081"/>
      </c:barChart>
      <c:catAx>
        <c:axId val="211474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93081"/>
        <c:crosses val="autoZero"/>
        <c:auto val="1"/>
        <c:lblAlgn val="ctr"/>
        <c:lblOffset val="100"/>
        <c:noMultiLvlLbl val="0"/>
      </c:catAx>
      <c:valAx>
        <c:axId val="525930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474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607-D570-45EC-90E0-20A86806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2A5-A848-44D6-9B86-C26E6E76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609-983A-4EF5-8B03-6C1D6D2F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AD5-C5A7-445F-BCFB-32D18BD7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5CF4-E6BE-4AE3-805B-D4877781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28CE-F6F3-4276-B03F-2A533CE1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548-BE18-44F6-AE8A-48A1EE35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69EF-BAEF-4E78-AB0C-8EDA29CF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C0D-7567-4A5C-8400-3D7801F0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9C0-EEDB-4FE9-BC0D-C91F0617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40D3-0E22-4EFB-B7E4-B92B406B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6A2F-3A8F-4758-A799-F11E3EAD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8E66B-0D4E-493C-B31F-0984DADE7A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