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14143"/>
        <c:axId val="16906307"/>
      </c:barChart>
      <c:catAx>
        <c:axId val="13141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906307"/>
        <c:crosses val="autoZero"/>
        <c:auto val="1"/>
        <c:lblAlgn val="ctr"/>
        <c:lblOffset val="100"/>
        <c:noMultiLvlLbl val="0"/>
      </c:catAx>
      <c:valAx>
        <c:axId val="169063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141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B1AD-B6BD-4E75-BCEB-DA644A000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DAC3-7E88-4B3E-A6D7-641A44945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75F9-D66D-4EE2-997D-F5BAF3A54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576D-30A2-4055-8636-EB1D95853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AC2D-4F41-4FF8-A64D-AED954128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0788-3BB6-4F48-A90F-5E8102CCE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E7CD-EC2D-4CBB-A21F-E510FCB92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111D-6272-4B7C-97A7-DC4478614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923F-9E73-42BF-BCF3-B8642B3C7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4471-1BA5-4C01-AAD5-F4A8973D5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8374-6DD3-4C26-948B-9501F2538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BA73-B282-4C7F-BE22-6915D95DE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A25191-D76A-4DEB-AD75-52FE101AAD4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