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57364"/>
        <c:axId val="65498778"/>
      </c:barChart>
      <c:catAx>
        <c:axId val="50457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98778"/>
        <c:crosses val="autoZero"/>
        <c:auto val="1"/>
        <c:lblAlgn val="ctr"/>
        <c:lblOffset val="100"/>
        <c:noMultiLvlLbl val="0"/>
      </c:catAx>
      <c:valAx>
        <c:axId val="65498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57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1DE-F540-4986-96B5-BBDB9133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627-33D0-4E01-881C-D1E23B40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A9E-F747-40B7-B0B2-73ECCC7D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8AB-E15C-4335-84F0-80A0A51F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236-2DAC-4426-8F71-CED27876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C16-50B4-45EC-BD32-68F71A51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D49-2DE9-4BEA-8C54-008199B8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709-209D-42B0-AA14-F7486A02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F06-AFA9-4A59-B494-72D3651E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AFD-B2ED-402E-B1E6-9F8EA266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904-F5BD-4AB7-896E-92968C34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E81-7BF9-4B85-B83E-C5833FBF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5B798-1E4F-4C88-AC25-C896F9B950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